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53.wmf" ContentType="image/x-wmf"/>
  <Override PartName="/ppt/media/image49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5.wmf" ContentType="image/x-wmf"/>
  <Override PartName="/ppt/media/image44.jpeg" ContentType="image/jpeg"/>
  <Override PartName="/ppt/media/image60.wmf" ContentType="image/x-wmf"/>
  <Override PartName="/ppt/media/image43.wmf" ContentType="image/x-wmf"/>
  <Override PartName="/ppt/media/image42.wmf" ContentType="image/x-wmf"/>
  <Override PartName="/ppt/media/image102.jpeg" ContentType="image/jpeg"/>
  <Override PartName="/ppt/media/image40.jpeg" ContentType="image/jpeg"/>
  <Override PartName="/ppt/media/image13.wmf" ContentType="image/x-wmf"/>
  <Override PartName="/ppt/media/image1.wmf" ContentType="image/x-wmf"/>
  <Override PartName="/ppt/media/image47.jpeg" ContentType="image/jpeg"/>
  <Override PartName="/ppt/media/image25.wmf" ContentType="image/x-wmf"/>
  <Override PartName="/ppt/media/image36.wmf" ContentType="image/x-wmf"/>
  <Override PartName="/ppt/media/image34.wmf" ContentType="image/x-wmf"/>
  <Override PartName="/ppt/media/image33.jpeg" ContentType="image/jpeg"/>
  <Override PartName="/ppt/media/image37.wmf" ContentType="image/x-wmf"/>
  <Override PartName="/ppt/media/image12.jpeg" ContentType="image/jpeg"/>
  <Override PartName="/ppt/media/image29.jpeg" ContentType="image/jpeg"/>
  <Override PartName="/ppt/media/image108.jpeg" ContentType="image/jpeg"/>
  <Override PartName="/ppt/media/image30.jpeg" ContentType="image/jpeg"/>
  <Override PartName="/ppt/media/image18.wmf" ContentType="image/x-wmf"/>
  <Override PartName="/ppt/media/image83.wmf" ContentType="image/x-wmf"/>
  <Override PartName="/ppt/media/image10.jpeg" ContentType="image/jpeg"/>
  <Override PartName="/ppt/media/image27.jpeg" ContentType="image/jpeg"/>
  <Override PartName="/ppt/media/image82.wmf" ContentType="image/x-wmf"/>
  <Override PartName="/ppt/media/image86.jpeg" ContentType="image/jpeg"/>
  <Override PartName="/ppt/media/image106.jpeg" ContentType="image/jpeg"/>
  <Override PartName="/ppt/media/image41.wmf" ContentType="image/x-wmf"/>
  <Override PartName="/ppt/media/image62.jpeg" ContentType="image/jpeg"/>
  <Override PartName="/ppt/media/image39.jpeg" ContentType="image/jpeg"/>
  <Override PartName="/ppt/media/image14.gif" ContentType="image/gif"/>
  <Override PartName="/ppt/media/image17.png" ContentType="image/png"/>
  <Override PartName="/ppt/media/image98.jpeg" ContentType="image/jpeg"/>
  <Override PartName="/ppt/media/image8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2.wmf" ContentType="image/x-wmf"/>
  <Override PartName="/ppt/media/image107.jpeg" ContentType="image/jpeg"/>
  <Override PartName="/ppt/media/image9.jpeg" ContentType="image/jpeg"/>
  <Override PartName="/ppt/media/image51.jpeg" ContentType="image/jpeg"/>
  <Override PartName="/ppt/media/image23.wmf" ContentType="image/x-wmf"/>
  <Override PartName="/ppt/media/image50.jpeg" ContentType="image/jpeg"/>
  <Override PartName="/ppt/media/image112.wmf" ContentType="image/x-wmf"/>
  <Override PartName="/ppt/media/image5.jpeg" ContentType="image/jpeg"/>
  <Override PartName="/ppt/media/image38.wmf" ContentType="image/x-wmf"/>
  <Override PartName="/ppt/media/image32.jpeg" ContentType="image/jpeg"/>
  <Override PartName="/ppt/media/image4.jpeg" ContentType="image/jpeg"/>
  <Override PartName="/ppt/media/image71.jpeg" ContentType="image/jpeg"/>
  <Override PartName="/ppt/media/image85.wmf" ContentType="image/x-wmf"/>
  <Override PartName="/ppt/media/image74.jpeg" ContentType="image/jpeg"/>
  <Override PartName="/ppt/media/image76.wmf" ContentType="image/x-wmf"/>
  <Override PartName="/ppt/media/image75.jpeg" ContentType="image/jpeg"/>
  <Override PartName="/ppt/media/image111.wmf" ContentType="image/x-wmf"/>
  <Override PartName="/ppt/media/image79.wmf" ContentType="image/x-wmf"/>
  <Override PartName="/ppt/media/image113.gif" ContentType="image/gif"/>
  <Override PartName="/ppt/media/image96.jpeg" ContentType="image/jpeg"/>
  <Override PartName="/ppt/media/image116.wmf" ContentType="image/x-wmf"/>
  <Override PartName="/ppt/media/image99.jpeg" ContentType="image/jpeg"/>
  <Override PartName="/ppt/media/image88.wmf" ContentType="image/x-wmf"/>
  <Override PartName="/ppt/media/image110.wmf" ContentType="image/x-wmf"/>
  <Override PartName="/ppt/media/image24.wmf" ContentType="image/x-wmf"/>
  <Override PartName="/ppt/media/image59.jpeg" ContentType="image/jpeg"/>
  <Override PartName="/ppt/media/image73.jpeg" ContentType="image/jpeg"/>
  <Override PartName="/ppt/media/image109.jpeg" ContentType="image/jpeg"/>
  <Override PartName="/ppt/media/image115.gif" ContentType="image/gif"/>
  <Override PartName="/ppt/media/image89.jpeg" ContentType="image/jpeg"/>
  <Override PartName="/ppt/media/image105.jpeg" ContentType="image/jpeg"/>
  <Override PartName="/ppt/media/image95.jpeg" ContentType="image/jpeg"/>
  <Override PartName="/ppt/media/image69.wmf" ContentType="image/x-wmf"/>
  <Override PartName="/ppt/media/image103.jpeg" ContentType="image/jpeg"/>
  <Override PartName="/ppt/media/image84.jpeg" ContentType="image/jpeg"/>
  <Override PartName="/ppt/media/image104.jpeg" ContentType="image/jpeg"/>
  <Override PartName="/ppt/media/image97.jpeg" ContentType="image/jpeg"/>
  <Override PartName="/ppt/media/image81.jpeg" ContentType="image/jpeg"/>
  <Override PartName="/ppt/media/image101.jpeg" ContentType="image/jpeg"/>
  <Override PartName="/ppt/media/image114.wmf" ContentType="image/x-wmf"/>
  <Override PartName="/ppt/media/image90.jpeg" ContentType="image/jpeg"/>
  <Override PartName="/ppt/media/image63.jpeg" ContentType="image/jpeg"/>
  <Override PartName="/ppt/media/image6.jpeg" ContentType="image/jpeg"/>
  <Override PartName="/ppt/media/image58.wmf" ContentType="image/x-wmf"/>
  <Override PartName="/ppt/media/image94.jpeg" ContentType="image/jpeg"/>
  <Override PartName="/ppt/media/image93.jpeg" ContentType="image/jpeg"/>
  <Override PartName="/ppt/media/image26.wmf" ContentType="image/x-wmf"/>
  <Override PartName="/ppt/media/image91.wmf" ContentType="image/x-wmf"/>
  <Override PartName="/ppt/media/image70.jpeg" ContentType="image/jpeg"/>
  <Override PartName="/ppt/media/image68.wmf" ContentType="image/x-wmf"/>
  <Override PartName="/ppt/media/image64.jpeg" ContentType="image/jpeg"/>
  <Override PartName="/ppt/media/image7.jpeg" ContentType="image/jpeg"/>
  <Override PartName="/ppt/media/image67.wmf" ContentType="image/x-wmf"/>
  <Override PartName="/ppt/media/image66.wmf" ContentType="image/x-wmf"/>
  <Override PartName="/ppt/media/image21.wmf" ContentType="image/x-wmf"/>
  <Override PartName="/ppt/media/image77.jpeg" ContentType="image/jpeg"/>
  <Override PartName="/ppt/media/image65.jpeg" ContentType="image/jpeg"/>
  <Override PartName="/ppt/media/image78.jpeg" ContentType="image/jpeg"/>
  <Override PartName="/ppt/media/image61.jpeg" ContentType="image/jpeg"/>
  <Override PartName="/ppt/media/image22.wmf" ContentType="image/x-wmf"/>
  <Override PartName="/ppt/media/image100.jpeg" ContentType="image/jpeg"/>
  <Override PartName="/ppt/media/image80.jpeg" ContentType="image/jpeg"/>
  <Override PartName="/ppt/media/image19.wmf" ContentType="image/x-wmf"/>
  <Override PartName="/ppt/media/image16.wmf" ContentType="image/x-wmf"/>
  <Override PartName="/ppt/media/image2.png" ContentType="image/png"/>
  <Override PartName="/ppt/media/image72.jpeg" ContentType="image/jpeg"/>
  <Override PartName="/ppt/media/image31.jpeg" ContentType="image/jpeg"/>
  <Override PartName="/ppt/media/image15.wmf" ContentType="image/x-wmf"/>
  <Override PartName="/ppt/media/image3.wmf" ContentType="image/x-wmf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420-D692-4B38-8ABC-361FC7F65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1EB-D163-42F7-9EC2-E9DF26A1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6D1B-9EB6-403D-860A-16346AE65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697-9824-4D22-B644-1330AF93A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FD8-FB87-47BE-A3AE-65621645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618-5A35-40F5-8FAE-2468BBB4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7BFE-B027-4A5A-AEA5-982E6827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BCCB-5BF6-436E-9E45-6676639C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2AA2-9A9F-414A-919B-735799E67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1D1C-1BE2-43DD-A7C9-592BA385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3C4A-1C4D-4919-9919-DD678B2C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2B22-A4DF-4260-B680-CDC70F6C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9D28-06B2-47DA-84A5-19C23868D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gif"/><Relationship Id="rId7" Type="http://schemas.openxmlformats.org/officeDocument/2006/relationships/image" Target="../media/image114.wmf"/><Relationship Id="rId8" Type="http://schemas.openxmlformats.org/officeDocument/2006/relationships/image" Target="../media/image115.gi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3213000"/>
            <a:ext cx="8713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33"/>
                    </a:gs>
                    <a:gs pos="100000">
                      <a:srgbClr val="ebe74f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33"/>
                  </a:gs>
                  <a:gs pos="100000">
                    <a:srgbClr val="ebe74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2000" y="333360"/>
          <a:ext cx="254952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33360"/>
                    <a:ext cx="2549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4E7C-6A04-43FE-A629-05B5A5DD45C7}" type="slidenum">
              <a:t>1</a:t>
            </a:fld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083120" cy="583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76720" y="1341360"/>
            <a:ext cx="3527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инистер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и нау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спубл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арий Э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Ию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7D7-D0D0-4952-879A-9306B19899E5}" type="slidenum">
              <a:t>10</a:t>
            </a:fld>
          </a:p>
        </p:txBody>
      </p:sp>
    </p:spTree>
  </p:cSld>
  <p:transition advTm="1000">
    <p:wheel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112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Городские соревн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по туристическому многобор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59500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28000" y="5734080"/>
            <a:ext cx="900000" cy="93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88000" y="1959120"/>
            <a:ext cx="223200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 об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зачё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зё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отде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номинациях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0164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77D-D5F4-4EBE-83BF-320E507FA95F}" type="slidenum">
              <a:t>11</a:t>
            </a:fld>
          </a:p>
        </p:txBody>
      </p:sp>
    </p:spTree>
  </p:cSld>
  <p:transition advTm="1000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УРОКИ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2565360"/>
            <a:ext cx="234468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379600" cy="237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45E-3165-48BA-96B2-B1D17FE4176C}" type="slidenum">
              <a:t>12</a:t>
            </a:fld>
          </a:p>
        </p:txBody>
      </p:sp>
    </p:spTree>
  </p:cSld>
  <p:transition spd="med" advTm="1000">
    <p:wheel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Ордена – почётные награды за воинские отличия и заслуги в бою и в воинской службе» - 21.10.2005 года (11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Приборы химической разведки и дозиметрического контроля» - для руководителей учебных заведений РМЭ – 16.04.2006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308720" y="2808360"/>
            <a:ext cx="1656000" cy="133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57E-8B3D-47FA-9740-74FA6FBDA243}" type="slidenum">
              <a:t>13</a:t>
            </a:fld>
          </a:p>
        </p:txBody>
      </p:sp>
    </p:spTree>
  </p:cSld>
  <p:transition advTm="1000">
    <p:wheel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урсы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повышения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валификации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2270160" cy="230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232000" cy="17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AEB2-0DEA-4E70-915A-A17DA04385E2}" type="slidenum">
              <a:t>14</a:t>
            </a:fld>
          </a:p>
        </p:txBody>
      </p:sp>
    </p:spTree>
  </p:cSld>
  <p:transition>
    <p:wheel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охране труда - декабрь 2005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гражданской обороне – март 2006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5445000"/>
            <a:ext cx="194472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12000" y="1700280"/>
            <a:ext cx="113832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19640" y="5445000"/>
            <a:ext cx="136836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627280" y="5516640"/>
            <a:ext cx="1511280" cy="10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451640" y="5229360"/>
            <a:ext cx="1339920" cy="14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E25B-B093-4C77-93C8-F33AF263F9B1}" type="slidenum">
              <a:t>15</a:t>
            </a:fld>
          </a:p>
        </p:txBody>
      </p:sp>
    </p:spTree>
  </p:cSld>
  <p:transition spd="slow">
    <p:cover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84920" y="3135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13000"/>
            <a:ext cx="20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907920"/>
            <a:ext cx="8569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НОВЫ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ЗОПАС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ЗНЕДЕЯТЕЛЬ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11280" cy="212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14776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C4B6-BC9E-4935-8919-3ED694293AFF}" type="slidenum">
              <a:t>16</a:t>
            </a:fld>
          </a:p>
        </p:txBody>
      </p:sp>
    </p:spTree>
  </p:cSld>
  <p:transition advTm="1000"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40000" y="1562040"/>
            <a:ext cx="4537080" cy="332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08360" cy="129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06400" cy="170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9640" y="5373720"/>
            <a:ext cx="2697120" cy="1036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1655640" cy="1623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380360" y="25653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84360" y="2637000"/>
            <a:ext cx="1009440" cy="165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C8BB-8E2F-425E-B0BB-3A5D8202629D}" type="slidenum">
              <a:t>17</a:t>
            </a:fld>
          </a:p>
        </p:txBody>
      </p:sp>
    </p:spTree>
  </p:cSld>
  <p:transition advTm="1000">
    <p:wheel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сихология действия человека в экстремальной ситуа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32000" y="4653000"/>
            <a:ext cx="1125720" cy="181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1817640" cy="126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117648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1753920" cy="145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9640" y="4797360"/>
            <a:ext cx="1548000" cy="16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28E-44C0-4838-834B-324A29CA32F0}" type="slidenum">
              <a:t>18</a:t>
            </a:fld>
          </a:p>
        </p:txBody>
      </p:sp>
    </p:spTree>
  </p:cSld>
  <p:transition advTm="1000">
    <p:pull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620640"/>
            <a:ext cx="820728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ециалис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хран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резвычайны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туация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CEE-5DF7-4416-A8E4-AFB938449D6F}" type="slidenum">
              <a:t>19</a:t>
            </a:fld>
          </a:p>
        </p:txBody>
      </p:sp>
    </p:spTree>
  </p:cSld>
  <p:transition advTm="1000">
    <p:wheel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9280" y="3068640"/>
            <a:ext cx="8713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25259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252597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203832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BBD-9F3A-4AA1-B020-3996724B522F}" type="slidenum">
              <a:t>2</a:t>
            </a:fld>
          </a:p>
        </p:txBody>
      </p:sp>
    </p:spTree>
  </p:cSld>
  <p:transition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8160" cy="313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рганизация и про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классных часов и других мероприя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по предмету «ОБЖ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5892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Огонь – друг, огонь – враг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1022400" cy="120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1073160" cy="10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7C45-93B7-435C-B986-0709B9F09948}" type="slidenum">
              <a:t>20</a:t>
            </a:fld>
          </a:p>
        </p:txBody>
      </p:sp>
    </p:spTree>
  </p:cSld>
  <p:transition advTm="1000">
    <p:wheel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260280"/>
            <a:ext cx="86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лен методического совет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ГМО учителей ОБ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169704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96360" y="4724280"/>
            <a:ext cx="1307880" cy="180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63640" y="1604880"/>
            <a:ext cx="5545080" cy="36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0077-C396-439C-A758-5F43E3435A42}" type="slidenum">
              <a:t>21</a:t>
            </a:fld>
          </a:p>
        </p:txBody>
      </p:sp>
    </p:spTree>
  </p:cSld>
  <p:transition advTm="1000">
    <p:wheel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550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МЕРОПРИЯТ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оревнования по стрельбе из пневматического пистолета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сентября 2005 года (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днодневный по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риентирование на местности. Способы разведения костра)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нтябрь 2005 года (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День призывник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 ноября 200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ематический веч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Этих дней не смолкнет слава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нварь 2006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иблиотека Х. Колумб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туденты МарГУ и 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езд в в/ч 05 2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с проведением соревнований между 10, 11классами и военнослужащи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А ну-ка, парни!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2 февраля 2006 года (10-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ступление Д. Шипун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враль 2006 года (9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арад юнармейце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 мая 2006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частие в туристическом многоборье среди учителей города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тябрь 2005 года –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сто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еспубликанские соревнования «Школа безопасности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юнь 2006 года (10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0079"/>
                </a:solidFill>
                <a:latin typeface="Times New Roman"/>
              </a:rPr>
              <a:t>Презентация музея боевой слав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август 2006 года – курсы повышения квалификации МИ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00720" cy="497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413000" cy="10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CAA5-6688-49A4-B8C5-C16A27672EE7}" type="slidenum">
              <a:t>22</a:t>
            </a:fld>
          </a:p>
        </p:txBody>
      </p:sp>
    </p:spTree>
  </p:cSld>
  <p:transition advTm="1000">
    <p:wheel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248000" cy="2840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319640" cy="28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00560" y="903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620640"/>
            <a:ext cx="3672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для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культуры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тиче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ч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Театр одного солдат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им. Колум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Апрель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804-6550-406D-A3A0-C5B56FFC1BFA}" type="slidenum">
              <a:t>23</a:t>
            </a:fld>
          </a:p>
        </p:txBody>
      </p:sp>
    </p:spTree>
  </p:cSld>
  <p:transition advTm="1000">
    <p:wheel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спубликанские соревнования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Школа безопасност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565360"/>
            <a:ext cx="331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дья этапа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«Осн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жизне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2376720" cy="159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DA6-1419-4ECE-B390-413E2C68B8EF}" type="slidenum">
              <a:t>24</a:t>
            </a:fld>
          </a:p>
        </p:txBody>
      </p:sp>
    </p:spTree>
  </p:cSld>
  <p:transition advTm="1000">
    <p:wheel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498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0360" y="5445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лужб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 мая  2004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7FA-E0F3-4750-8FEC-0805F5B32E4D}" type="slidenum">
              <a:t>25</a:t>
            </a:fld>
          </a:p>
        </p:txBody>
      </p:sp>
    </p:spTree>
  </p:cSld>
  <p:transition advTm="1000">
    <p:wheel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450864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арад юнармейц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 мая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311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1063440" cy="273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697640" cy="313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48360" y="1341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ст №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31A-FEA5-4ACB-8444-3533A49C870F}" type="slidenum">
              <a:t>26</a:t>
            </a:fld>
          </a:p>
        </p:txBody>
      </p:sp>
    </p:spTree>
  </p:cSld>
  <p:transition advTm="1000">
    <p:wheel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09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8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луб «Будущий воин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EC4E-A854-478B-A95C-AD16252A546D}" type="slidenum">
              <a:t>27</a:t>
            </a:fld>
          </a:p>
        </p:txBody>
      </p:sp>
    </p:spTree>
  </p:cSld>
  <p:transition advTm="1000">
    <p:wheel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273560" cy="2813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06920" y="3716280"/>
            <a:ext cx="4537080" cy="2987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Лучшие члены клуб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58136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Как всегд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девушк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12000" y="1268280"/>
            <a:ext cx="179676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88B3-844D-4DE7-BF87-1B9A35C249F9}" type="slidenum">
              <a:t>28</a:t>
            </a:fld>
          </a:p>
        </p:txBody>
      </p:sp>
    </p:spTree>
  </p:cSld>
  <p:transition advTm="1000">
    <p:wheel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1639800" cy="226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76360" y="18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чёт по физподготов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216-8CCA-4B36-B80D-DDDBE06C4173}" type="slidenum">
              <a:t>29</a:t>
            </a:fld>
          </a:p>
        </p:txBody>
      </p:sp>
    </p:spTree>
  </p:cSld>
  <p:transition advTm="1000">
    <p:wheel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11280" y="765000"/>
            <a:ext cx="79214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бо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олае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46CC-B136-4BBF-B5BD-AF771A3D6B5F}" type="slidenum">
              <a:t>3</a:t>
            </a:fld>
          </a:p>
        </p:txBody>
      </p:sp>
    </p:spTree>
  </p:cSld>
  <p:transition>
    <p:wheel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4920" cy="3129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2050920" cy="273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3280" y="1341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яжело в учени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гко в бою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31D9-2810-42E6-8BDA-3743DA390375}" type="slidenum">
              <a:t>30</a:t>
            </a:fld>
          </a:p>
        </p:txBody>
      </p:sp>
    </p:spTree>
  </p:cSld>
  <p:transition advTm="1000">
    <p:wheel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19640" cy="287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27840" y="5006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3809880"/>
            <a:ext cx="4289760" cy="2830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79840" y="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еренос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неног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628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Цыга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умною  толпою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83816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C55-DD3B-4DE3-8AA9-C3A8C5F5BE91}" type="slidenum">
              <a:t>31</a:t>
            </a:fld>
          </a:p>
        </p:txBody>
      </p:sp>
    </p:spTree>
  </p:cSld>
  <p:transition advTm="1000">
    <p:wheel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одготовка к военной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2962080" cy="1484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065480" y="2421000"/>
            <a:ext cx="155736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phone3"/>
          <p:cNvSpPr/>
          <p:nvPr/>
        </p:nvSpPr>
        <p:spPr>
          <a:xfrm>
            <a:off x="3708360" y="5229360"/>
            <a:ext cx="1224000" cy="1150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19640" y="5373720"/>
            <a:ext cx="1270080" cy="851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557360"/>
            <a:ext cx="2232000" cy="1668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211640" y="1125360"/>
            <a:ext cx="932040" cy="115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0000" y="1413000"/>
            <a:ext cx="1917720" cy="266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9E2-C1ED-413F-9766-F5AC6B2FC89F}" type="slidenum">
              <a:t>32</a:t>
            </a:fld>
          </a:p>
        </p:txBody>
      </p:sp>
    </p:spTree>
  </p:cSld>
  <p:transition advTm="1000">
    <p:wheel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103640" cy="2706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Воинская часть 05203-ОСО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55736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 защ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 оруж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сов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88000" y="3832200"/>
            <a:ext cx="4133880" cy="272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08000" y="472428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4000" y="4941720"/>
            <a:ext cx="1584000" cy="100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AEBC-8373-47E5-A50B-2B267D6137EA}" type="slidenum">
              <a:t>33</a:t>
            </a:fld>
          </a:p>
        </p:txBody>
      </p:sp>
    </p:spTree>
  </p:cSld>
  <p:transition advTm="1000">
    <p:wheel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608280" cy="542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4565520" cy="3008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00720" y="1197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ко-санитар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774-386F-4EFC-A824-897C68246241}" type="slidenum">
              <a:t>34</a:t>
            </a:fld>
          </a:p>
        </p:txBody>
      </p:sp>
    </p:spTree>
  </p:cSld>
  <p:transition advTm="1000">
    <p:wheel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94160" cy="289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3614760"/>
            <a:ext cx="4500720" cy="296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47640" y="4005360"/>
            <a:ext cx="26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ревнования п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ревому спор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11840" y="1557360"/>
            <a:ext cx="33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ятно держать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ках настоящ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евое оруж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72728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292720" y="404640"/>
            <a:ext cx="3038400" cy="10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22A-3210-4596-8ED8-2A3D26D0E96B}" type="slidenum">
              <a:t>35</a:t>
            </a:fld>
          </a:p>
        </p:txBody>
      </p:sp>
    </p:spTree>
  </p:cSld>
  <p:transition advTm="1000">
    <p:wheel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284040"/>
            <a:ext cx="5905440" cy="3934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3480" y="4292640"/>
            <a:ext cx="78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ыступление перед 9-классн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митрия Шипунова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мандира поискового отря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ЕМО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3280" cy="142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A0C5-73B9-4C0F-BD14-FD22F642CEC0}" type="slidenum">
              <a:t>36</a:t>
            </a:fld>
          </a:p>
        </p:txBody>
      </p:sp>
    </p:spTree>
  </p:cSld>
  <p:transition advTm="1000">
    <p:wheel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478400" cy="299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4464000" cy="2963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3640" y="765000"/>
            <a:ext cx="29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отограф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 нахо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 места раскоп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359240"/>
            <a:ext cx="174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кровен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згов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584360" cy="116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EAE5-C034-47FB-97CA-9CCFFBD82E22}" type="slidenum">
              <a:t>37</a:t>
            </a:fld>
          </a:p>
        </p:txBody>
      </p:sp>
    </p:spTree>
  </p:cSld>
  <p:transition advTm="1000">
    <p:wheel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84520" cy="5340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25800" cy="31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408560" y="549360"/>
            <a:ext cx="369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чен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ним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луш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у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. Шипун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04472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EFD-A683-4D69-B9C5-E94A23ABEA08}" type="slidenum">
              <a:t>38</a:t>
            </a:fld>
          </a:p>
        </p:txBody>
      </p:sp>
    </p:spTree>
  </p:cSld>
  <p:transition advTm="1000">
    <p:wheel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87280" y="2924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ч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бине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331164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C502-A051-473E-8592-DA2954611826}" type="slidenum">
              <a:t>39</a:t>
            </a:fld>
          </a:p>
        </p:txBody>
      </p:sp>
    </p:spTree>
  </p:cSld>
  <p:transition advTm="1000">
    <p:wheel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ривобок Владимир Никола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0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высшее, МВИЗРУ ПВО страны, военный инженер, 197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высшей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32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полковник запа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али за заслуги перед Оте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уроки ОБЖ в 9-11 класс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40720" y="5157720"/>
            <a:ext cx="1230120" cy="145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291120" cy="506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77E-6B7D-4BEB-9879-8EF2FC169E48}" type="slidenum">
              <a:t>4</a:t>
            </a:fld>
          </a:p>
        </p:txBody>
      </p:sp>
    </p:spTree>
  </p:cSld>
  <p:transition spd="med" advTm="1000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9640" y="441360"/>
            <a:ext cx="8136000" cy="610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4BDB-D3AB-47D0-B995-97EACA54995B}" type="slidenum">
              <a:t>40</a:t>
            </a:fld>
          </a:p>
        </p:txBody>
      </p:sp>
    </p:spTree>
  </p:cSld>
  <p:transition advTm="1000"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5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EDD-05F1-4F41-84EA-73E212CCA9D6}" type="slidenum">
              <a:t>41</a:t>
            </a:fld>
          </a:p>
        </p:txBody>
      </p:sp>
    </p:spTree>
  </p:cSld>
  <p:transition advTm="1000"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615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6FF-2CE1-4612-8319-64274D01F787}" type="slidenum">
              <a:t>42</a:t>
            </a:fld>
          </a:p>
        </p:txBody>
      </p:sp>
    </p:spTree>
  </p:cSld>
  <p:transition advTm="1000"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87280" y="765000"/>
            <a:ext cx="6985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уз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оев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ла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1868-8272-444A-B364-F6541276682B}" type="slidenum">
              <a:t>43</a:t>
            </a:fld>
          </a:p>
        </p:txBody>
      </p:sp>
    </p:spTree>
  </p:cSld>
  <p:transition advTm="1000"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A6EE-068B-409F-9316-D4E5EE9FACD8}" type="slidenum">
              <a:t>44</a:t>
            </a:fld>
          </a:p>
        </p:txBody>
      </p:sp>
    </p:spTree>
  </p:cSld>
  <p:transition advTm="1000"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1F03-29D8-4341-8CCA-CA4004F5D8B2}" type="slidenum">
              <a:t>45</a:t>
            </a:fld>
          </a:p>
        </p:txBody>
      </p:sp>
    </p:spTree>
  </p:cSld>
  <p:transition advTm="1000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164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A80-6F4E-4660-A48B-E43CF63B42EB}" type="slidenum">
              <a:t>46</a:t>
            </a:fld>
          </a:p>
        </p:txBody>
      </p:sp>
    </p:spTree>
  </p:cSld>
  <p:transition advTm="1000">
    <p:wheel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8FBA-9749-4069-87B9-5B5C1AE605CF}" type="slidenum">
              <a:t>47</a:t>
            </a:fld>
          </a:p>
        </p:txBody>
      </p:sp>
    </p:spTree>
  </p:cSld>
  <p:transition advTm="1000">
    <p:wheel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50160" cy="58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1C8C-AE64-4EBD-A0D0-7805B2B1D18F}" type="slidenum">
              <a:t>48</a:t>
            </a:fld>
          </a:p>
        </p:txBody>
      </p:sp>
    </p:spTree>
  </p:cSld>
  <p:transition advTm="1000">
    <p:wheel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8B4-ED55-4A85-A60E-6333EE496651}" type="slidenum">
              <a:t>49</a:t>
            </a:fld>
          </a:p>
        </p:txBody>
      </p:sp>
    </p:spTree>
  </p:cSld>
  <p:transition advTm="1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404640"/>
            <a:ext cx="849780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6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моты 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годарности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3E6-2DEB-4608-A9E5-78809F9A633A}" type="slidenum">
              <a:t>5</a:t>
            </a:fld>
          </a:p>
        </p:txBody>
      </p:sp>
    </p:spTree>
  </p:cSld>
  <p:transition advTm="1000">
    <p:wheel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F1BF-3BBE-47B7-BF92-4636A58B3BBD}" type="slidenum">
              <a:t>50</a:t>
            </a:fld>
          </a:p>
        </p:txBody>
      </p:sp>
    </p:spTree>
  </p:cSld>
  <p:transition advTm="1000"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F6D-EA6B-4700-9EB6-F3CAEC1BDECE}" type="slidenum">
              <a:t>51</a:t>
            </a:fld>
          </a:p>
        </p:txBody>
      </p:sp>
    </p:spTree>
  </p:cSld>
  <p:transition advTm="1000">
    <p:wheel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263700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ВЛЕЧЕНИЯ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FCB-4714-4D1B-850D-1BF02B401678}" type="slidenum">
              <a:t>52</a:t>
            </a:fld>
          </a:p>
        </p:txBody>
      </p:sp>
    </p:spTree>
  </p:cSld>
  <p:transition advTm="1000">
    <p:wheel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769440" cy="4483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76360" y="26028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нештат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фотокорреспонде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441440" cy="10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50920" y="3933720"/>
            <a:ext cx="146052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57CE-15F9-4766-B16F-81C780ED9403}" type="slidenum">
              <a:t>53</a:t>
            </a:fld>
          </a:p>
        </p:txBody>
      </p:sp>
    </p:spTree>
  </p:cSld>
  <p:transition advTm="1000">
    <p:wheel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51280" y="3354480"/>
            <a:ext cx="4981680" cy="3298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43280" cy="3074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48360" y="114300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 рыбал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46720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65000" cy="1700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4000" y="5734080"/>
            <a:ext cx="1331640" cy="922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692360" y="765000"/>
            <a:ext cx="792000" cy="716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61928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708360" y="1700280"/>
            <a:ext cx="6588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324000" y="234936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5294-6033-449B-AE31-E5DC6FA5810C}" type="slidenum">
              <a:t>54</a:t>
            </a:fld>
          </a:p>
        </p:txBody>
      </p:sp>
    </p:spTree>
  </p:cSld>
  <p:transition advTm="1000">
    <p:wheel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35F2-7887-451A-B2B1-80962F7A39E1}" type="slidenum">
              <a:t>55</a:t>
            </a:fld>
          </a:p>
        </p:txBody>
      </p:sp>
    </p:spTree>
  </p:cSld>
  <p:transition advTm="1000">
    <p:wheel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4708800" cy="6597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1544760" cy="2376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84720" y="58770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b28a1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6D9-5532-41FA-BB76-E9BB167051C6}" type="slidenum">
              <a:t>56</a:t>
            </a:fld>
          </a:p>
        </p:txBody>
      </p:sp>
    </p:spTree>
  </p:cSld>
  <p:transition advTm="1000">
    <p:wheel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A5FB-86FE-4BCF-B908-8DCAA1DC6156}" type="slidenum">
              <a:t>6</a:t>
            </a:fld>
          </a:p>
        </p:txBody>
      </p:sp>
    </p:spTree>
  </p:cSld>
  <p:transition advTm="1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854520" cy="513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54520" cy="513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FD63-450A-4AE6-9759-A646993767BB}" type="slidenum">
              <a:t>7</a:t>
            </a:fld>
          </a:p>
        </p:txBody>
      </p:sp>
    </p:spTree>
  </p:cSld>
  <p:transition advTm="1000"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348360" cy="446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16200" y="189000"/>
            <a:ext cx="572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оинская часть 052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6014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04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D1EA-61DF-4563-937F-1C0C2956D4B6}" type="slidenum">
              <a:t>8</a:t>
            </a:fld>
          </a:p>
        </p:txBody>
      </p:sp>
    </p:spTree>
  </p:cSld>
  <p:transition advTm="1000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4008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1052640"/>
            <a:ext cx="3446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дминист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город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Гор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Йошкар-Ол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ктяб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D15-17C7-4039-ABA2-08D2B6CB5713}" type="slidenum">
              <a:t>9</a:t>
            </a:fld>
          </a:p>
        </p:txBody>
      </p:sp>
    </p:spTree>
  </p:cSld>
  <p:transition advTm="1000">
    <p:wheel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6-11-23T18:15:03Z</dcterms:modified>
  <cp:revision>360</cp:revision>
  <dc:subject/>
  <dc:title>Федерация интернет Образования</dc:title>
</cp:coreProperties>
</file>